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7A8-680F-49F1-9F73-098343A3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BBC0-7F71-4483-A94C-B4AE2CAD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059-0994-41E9-A352-C2CEDC1A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A5B-A369-497B-86AA-62A13617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38EE-CA31-4263-ABE1-3BC68234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FD94-586D-4099-99D8-F1B87928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D59D-7FD0-483B-939F-43D0A4A6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AC2B-7C49-479B-8C64-07CEBD0E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7B91-9FB0-4BC4-A938-B3B70246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0AB7-EB47-42CB-8A00-5C81650A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84A2-6425-4A2F-B7CA-CF962077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439-1361-450A-AD43-701E3A0E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0A7C-498E-49F3-BE0B-3269209F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6143-3EBA-4B45-AAF7-2A7DAEA1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8DCB-3544-4A60-9B23-C2F362ED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4276-AD07-43F7-A752-4F4036C8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43E9-6035-4535-A12D-243DAFD5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C19B-056F-422C-AC81-B164AEA2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421-10A9-4DB7-A4D0-9D06E328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EFE-6C06-47CF-B178-9D7CE098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EEA-5017-4F36-A104-0AF4CA9F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6BA-3BF7-43E7-9ED6-93083907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3CD-A2BA-44A6-A32B-EB24EA7C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28C-51F1-4980-A33F-6F07D702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D18F-4AED-478F-8718-5E1CCD54AD4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D2BF-8C1F-46E6-AA1C-15B86357241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724280"/>
            <a:ext cx="572436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Arial"/>
                <a:cs typeface="????Boutros Rokaa"/>
              </a:rPr>
              <a:t>ربي بتعرف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51280" y="2781000"/>
            <a:ext cx="5292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صلّيتْ وتمنّيْ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مشي على دربَ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ريت فيّي كُو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ين الرّسُل حَدَّك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48000" y="2636640"/>
            <a:ext cx="57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شوقي إلَك يا ربّ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شوق الطّفل للعيد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يا ريت فينا نحبّ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ا قدّ ما بتريد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5640" y="2707920"/>
            <a:ext cx="601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ْخِبزَك أنا جوع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لْخَمِرْتَك بالكا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تْناوَل القرب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يروي العطش قدّاس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9:25:23Z</dcterms:created>
  <dc:creator>Charbel Azar</dc:creator>
  <dc:description/>
  <dc:language>en-US</dc:language>
  <cp:lastModifiedBy>-</cp:lastModifiedBy>
  <dcterms:modified xsi:type="dcterms:W3CDTF">2003-01-03T16:39:09Z</dcterms:modified>
  <cp:revision>4</cp:revision>
  <dc:subject/>
  <dc:title>ربّي بتعرِف إنّي بحِبَّك عا قدّ الكَون مِنَّك عطا ومنّي كلّ الصّلا اللي هَون</dc:title>
</cp:coreProperties>
</file>